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54E-7D14-4E3A-B4A1-6BFE332EC8A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1518-D415-47D2-BFD9-630BB204B74C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A67-9738-4FC4-ADB2-834FE56A36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0F0-A387-4D42-B946-E7301D1F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30D-72D0-46A6-A2FF-7B029C42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3F079-119A-4567-AAE9-5CC5E163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35957-55ED-4E62-BBF6-EC40D6DD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FA6C8-FD3C-4A35-888B-57B4790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A89B0-1164-40AE-95BC-622AA60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9BBE-B570-485E-8F52-CB1F17D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4D72-53E5-49EE-81D0-E7AF2A7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68D7-A57E-4A01-9EC5-BB951212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10A4A-FA08-47C7-A80D-FF52FC8E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8EAF-FD3B-4D42-8B2B-E236D956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212E0-38DB-4DF6-8E72-58469426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320-1626-4499-92B7-4CAE6FB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1D900-DA3D-4446-88A5-E22469F1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47481-D307-49D5-8482-1942490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269E3-8E7F-4EF1-AC8B-747158F2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57098-7133-4015-B119-23C8B0D0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D82B7-FF0E-498A-93EC-E1725667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1041B-46EB-48A2-8BAA-492EDAC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BF556-80F4-48AC-B5FB-ACBF414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17CCA-AF13-4DCB-87AD-08887EB5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23ADD-DE13-4D0E-BEB0-D62925A6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4B65F-BF57-4BBE-8A97-EBE58344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2F2-F56F-458F-90A4-5F82713B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0B6C1-9682-441F-90B6-F21DA383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FF9BF-EB85-4569-88CA-3CED293F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6427-6B6E-4DF5-B1FE-C97A3C8F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548FA-1A6E-44AE-A1B8-12CA5D60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7320-C53E-4C6D-A273-220F759C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F311F-8A58-44E5-AFE1-22C3365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7FA3C-BB16-4BA2-8A46-7DB91D5D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446D8-DD75-4D1F-9E10-0F2D60C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23C5-9A7F-49DA-B815-2268FD4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BF539-9F30-4FCE-B1CD-0988C9D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3FD4-EC2F-45C9-A783-4D157532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11B8-C960-4616-8171-E88D588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88B0A-0A48-4553-ADCF-8624D2EF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990F-B5EF-4E1B-9AD0-A9B58BBE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9C2B6-6C9C-4D1A-B44E-3FA88B6C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47F14-432C-49E8-99AF-113153A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582E1-EC83-496D-A05B-57714370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12737-73F3-4B94-A9D1-1125CD66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B1FA8-6F5A-458C-916C-51A5B8E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63C3D-D669-4178-9229-1F7D2617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84B71-A20E-47F6-B512-5C11C8F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133-1E51-43D4-8417-0EF3794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C410A-EAA2-4974-BAFE-BFE3A5F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1AA5-D0CA-4251-AF45-DA90AAE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E3E0F-C127-457E-BC05-BE7E1E4A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62569-82AB-48A5-BF31-00BED6DC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DBF11-B562-4E06-B515-44A2482A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291-4861-482D-9B99-8268478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6049-A6CC-4B05-AE7D-11D5F280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AC94-9523-44D5-A58A-7AB618B8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6601-8ACD-4F6E-B507-C8C3EE41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E05-C139-4F5F-B205-D660B34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E52-89D2-412D-8377-A0D70D8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6036-2174-435A-86C5-49495690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D010-2081-4CC5-8C87-45AF3CE9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A499-8AE2-4485-8D07-2D9AA10F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D72E-C148-44B0-9B10-81B6EE08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BE6-AADB-4AA6-A9AF-B51FFBE4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8475-D6EC-4FD3-A6A0-8D6D1DC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4E46-900C-4EEA-9BBF-A0559CF3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F1C3-3170-4FC6-8149-83ECBA80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A12A-44F9-4BE7-BD95-A90BE45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FCF1-93BF-45BC-9961-F0CD4377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40F-94E7-44C2-8688-15358AB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6B26-DE1B-4EAC-93E1-424F4B43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A8C8-35E3-437F-AB45-6552ED7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5568-99C9-41C6-92AB-D498B5A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0FB5-9860-4027-8BB9-49AD66A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04E8-120F-409A-A062-777F404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1592-8D74-45B5-AD98-FB4EE8B6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0F89-6F5B-427F-8D01-47A851D5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0A07-350C-4C12-AFB2-7F13DB8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06A3-81BC-400B-A3E0-0C23A029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93F0-2BA1-4FBE-8173-27BC0582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47E-4643-4E5B-9C15-A5FB26C5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9CEA-8B06-409B-9764-8E772374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F007-8B0F-4664-BE22-81A37855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DB35-D037-4A92-AF17-7027F1C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B99B-F6BE-4758-8910-44BEFFF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3536-039A-424A-B6C7-54EB554A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BE2F-885A-4411-972D-E9AA275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1519-BF8E-4225-96EA-184B0B84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FA57-D54B-44B1-B4FC-423FEC9C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127B-F815-407F-B352-64784E1A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BA34-05CC-4CB6-BD91-C1A04AAF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51A-04A8-49C6-B44E-7F93BE23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0892-6FAB-4DA5-8C24-54565AF3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433DB-0847-49DC-972D-E191FDA2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F7BD-8BE9-47C3-B898-E889267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1A2B-D530-4345-80B1-5F9DF515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504C-D3C9-4F05-B609-8F2842C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BFF3-4E60-4CF1-8C2F-A272AB3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305D-FFD2-4E87-83E1-8F05F58D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BA06-7C34-405B-A8C3-69B17524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494F-50FD-4E7E-BDD5-DD033D25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EA0F-A3C4-4410-9D27-036C6298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472-C2C0-409F-82C7-8E0D9C5F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0C32-6409-4027-9B0D-3B96696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AA93-28F1-4A4C-8DD1-1880D1A7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CA1D-8780-4086-8B53-3E2AAB3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449F-78E9-43BE-A347-77572D4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FEF7-F9AF-4C7F-884E-654EB31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8E8BC-5B32-4D78-8C38-881E56A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BFE1-B20C-4302-A358-8324D5F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9C2A-B3BC-4E34-B948-A5BD860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79BE-6B38-406B-9786-98C2F54F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D5FF4-AB4D-49C6-B29F-1DFA5E3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FD6-0872-461C-9F89-17F949D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07383-A629-41CA-A1E0-799E5643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CA3B7-346B-47B0-BC8E-2E0BD10C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9517-13DA-425D-AD46-102D44F5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6E3B8-C1B7-4BB8-9084-7674BA4D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854D7-7207-48CB-9B30-857E9231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5C236-3D5A-47DF-9061-91614EFD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ED33-5C1E-4D96-95E3-3DB8A78A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0716E-EDCE-4072-A34A-90E0EBE9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2BDF-3602-425E-ABE9-E375600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0759-25D6-46A3-BEAD-5F46018F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BFD-6970-4F28-BF21-D5FE5E5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C0D77-B8BE-4E06-B22A-9A3CF468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AB7E-5F3B-4703-A263-57FA91A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6574-0691-474A-9034-0BCBEDB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D9383-F2E6-4EA9-89CF-EE7C6994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E26A-3630-4870-A1E8-1236E872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798BB-D2C3-41CC-8131-513216C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96D4-9D87-4272-82D1-AAF3031D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71BF2-FE17-4206-88D2-E2435688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8D0E9-95D4-4AB0-8624-2CC0060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C236-C5EF-40AB-BCFB-F2EB62DE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EBB-C51C-4C50-8276-F6CD9BB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F84B-885E-4C5A-9D07-4E08DDFB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3CA0F-880D-43A8-917C-E4BEA95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A51D-F4D3-4E92-B7D9-80B2FAB4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F4023-1A78-4833-B889-041BB723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6DC63-0D59-4FC6-B8D2-B1BA0CCD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D61C-8902-4F32-A439-63859D4D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ED64-CA4F-40B2-9C98-A76BB53C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60153-46CE-4B73-B8F5-E5893660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7FFD0-C441-4B5F-BF35-DA36260D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8789-0337-407E-A23F-114F5E8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576-727D-45E9-AF67-994BDE8CBB8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2C5-D63B-471E-B9F6-9DEB80E1EEA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60D6-7EB6-4AF2-BC29-80FF6F7BAE3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5" name="Shap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63F1-9749-426B-AA83-E528348EF20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4B4-5417-4B46-BA6B-B4E7AC7A4E5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935-0047-4DCF-8761-D3CBF36EFBC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019C-9066-4FC7-ADF5-216439128D1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0F04-12A3-4753-9548-29F6A7A383F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909-CA69-4CDC-B307-F4B41C0A761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Shap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7F3-B011-4859-9CBD-1F48BD140C9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0" name="Shap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1D3-22E3-40B5-AF6C-C92BFFF8F48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Shap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D12-7C86-4CFF-9E72-C8449773CCA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My Family Tre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536" name="Diagram 5" descr=""/>
          <p:cNvPicPr/>
          <p:nvPr/>
        </p:nvPicPr>
        <p:blipFill>
          <a:blip r:embed="rId1"/>
          <a:stretch/>
        </p:blipFill>
        <p:spPr>
          <a:xfrm>
            <a:off x="450720" y="1176480"/>
            <a:ext cx="82425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2:20:12Z</dcterms:created>
  <dc:creator/>
  <dc:description/>
  <dc:language>en-US</dc:language>
  <cp:lastModifiedBy/>
  <dcterms:modified xsi:type="dcterms:W3CDTF">2008-11-21T02:20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701033</vt:lpwstr>
  </property>
</Properties>
</file>